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DF0909-5FA6-4D01-A47F-7F08B991A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B5A498-199A-4CED-ADEF-5C5F5E7E0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347086-0E51-43F9-828B-01617BF99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2B1893-E31F-447E-9195-08967AE46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A1904-01B8-4192-9D1D-400D88BB4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D13A0-C650-46B8-873A-FE0E53EF2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7C05D-5D0D-41C1-B907-1348080BC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37741-A3A4-405E-B5A3-6B457658B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BD0EA-6C52-4734-A115-A8AA7BD39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669B1-8399-4924-89F4-B53577CDC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C5BA0-159F-479C-9CCB-0EB806448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482FF1-BC42-41C3-99D8-FD82CD0BB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31C3A-A680-4A09-8E3F-5F5C2E255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A3169-4DBB-40F5-9504-0086CBA48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0A03B-CE23-4932-B54C-11FFC1386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6915C-22CF-442B-9BDE-29CBB5753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258A3-03D7-4157-BDC6-3EE53120D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A156D5-A857-4C62-A904-909A14226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A59D60-9019-4592-BA84-34E067248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E0978C-56AA-42C1-A82D-D8F766560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053105-A124-4633-9F7C-4DBB60EDD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3302B2-FFAD-442C-B690-D6F431150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799F4E-DB89-4081-BFAF-206886362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FF011B-1323-4D6D-B1E8-F68DD12D8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57909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easant Grove High Sch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ring 20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59E1E-9E3B-40F8-81AA-8E2E2357B01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Ribbon131 B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ibbon131 BT"/>
              </a:rPr>
              <a:t>M. Guym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Ribbon131 B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ibbon131 BT"/>
              </a:rPr>
              <a:t>M. Guym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easant Grove High Sch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ring 20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ABF24-A996-46F7-B5C6-4D5ED72E351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Operating Systems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omputer Technology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Day 3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3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UI (Graphical User Interface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type of user interface that features on-screen objects, such as menus and icons, manipulated by a mou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breviation is pronounced “gooey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3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141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146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i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of detailed, step-by-step instructions that tell a computer how to solve a problem or carry out a tas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of computer programs that help a person carry out a tas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3"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153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158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163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168" dur="5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sic defini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location on a network that is set aside for the collection of dat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l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ubdirectory or subdivision, of a drive that can contain files or other fold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named collection of data that exists on a storage mediu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3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175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180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185" dur="5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190" dur="5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195" dur="50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200" dur="500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sons, June Jamrich, and Dan Oja.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omputer Concep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Boston: Course Technology - Thompson Learning, 2002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3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velopment of comput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2514600" y="1905120"/>
            <a:ext cx="4067280" cy="419076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Generation comput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d vacuum tub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cuum tubes are electronic devices that control the flow of electr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d no operating syste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d custom application programs, which were made for the specific task that the computer was to perfor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structions were necessary for every aspect of the computing job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2743200" y="4191120"/>
            <a:ext cx="3386160" cy="237780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7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12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17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22" dur="5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27" dur="5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Generation computer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d transisto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istors performed functions similar to vacuum tubes, but they were smaller, cheaper, less power-hungry, and more relia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 programming language compil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d English like commands rather than binary numb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de it possible to develop softwa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2472" r="0" b="6118"/>
          <a:stretch/>
        </p:blipFill>
        <p:spPr>
          <a:xfrm>
            <a:off x="5203800" y="2314440"/>
            <a:ext cx="2925720" cy="321948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34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39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44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49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54" dur="5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Generation comput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1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integrated circu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icomputers were introduc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er and less powerful than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generation computers, but had the ability to run multiple programs for multiple users simultaneousl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600200" y="3886200"/>
            <a:ext cx="4281480" cy="271152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61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66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71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Generation comput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20968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general-purpose microprocesso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r systems were smaller, faster, and less expensive than 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generation compu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2057400" y="3809880"/>
            <a:ext cx="4245120" cy="239580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78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83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erating System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ster controller for all activities that take place within a computer; primary purpose is to help the computer system monitor itself in order to function efficient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acts with application software, device drivers, and hardware to manage a computer’s resour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sures that input and output proceed in an orderly mann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3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90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95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100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tfor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lying hardware and software of the computer syst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popular platfo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3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107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112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117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122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ltitask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nning more than one program at a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ing sure that the instructions and data from one area of memory don’t interfere with memory allocated for other progra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3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129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134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06T16:13:29Z</dcterms:created>
  <dc:creator>Michelle Guymon</dc:creator>
  <dc:description/>
  <dc:language>en-US</dc:language>
  <cp:lastModifiedBy>Larry Phelps</cp:lastModifiedBy>
  <dcterms:modified xsi:type="dcterms:W3CDTF">2004-09-07T16:54:15Z</dcterms:modified>
  <cp:revision>25</cp:revision>
  <dc:subject/>
  <dc:title>Operating Systems</dc:title>
</cp:coreProperties>
</file>